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8E8-B728-4C4A-9050-1D0EF780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2A4-7456-4AE2-BEB9-28BBF9F9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4E3-ECE6-4F52-98F6-499D2F2E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6D3-7DCE-4F14-B77A-71417883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169-9C2F-444D-BAD2-8F050640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C26-702D-447C-817A-2C29E4D1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9AB-F8CF-4F8A-AE1C-BEF2B37E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C1B-4EC1-43DC-9DFA-427B7BBF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014-DD59-49D7-A57B-3B628FC9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94C-E86B-4F48-ABA0-4B4E227B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011-6D12-464D-9E0F-3E24F2DD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2C2-3A29-4EBF-8411-4B07B0CA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59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5E20-165A-4B13-8481-14D7986342A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epea2011.com/" TargetMode="External"/><Relationship Id="rId2" Type="http://schemas.openxmlformats.org/officeDocument/2006/relationships/hyperlink" Target="http://www.aepea2011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8e58b6"/>
                </a:solidFill>
                <a:uFillTx/>
                <a:latin typeface="Calibri"/>
                <a:hlinkClick r:id="rId1"/>
              </a:rPr>
              <a:t>European Congress on Psychopathology in Childhood and Adolescence</a:t>
            </a:r>
            <a:r>
              <a:rPr b="0" lang="it-IT" sz="3200" spc="-1" strike="noStrike" u="sng">
                <a:solidFill>
                  <a:srgbClr val="8e58b6"/>
                </a:solidFill>
                <a:uFillTx/>
                <a:latin typeface="Calibri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Andrea Caneva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Per chi cresce: dal confronto delle competenz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alla condivisi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Uno sconosciuto entra in casa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Chi lo conosc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I bambini scambiati.</a:t>
            </a: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Calibri"/>
              </a:rPr>
              <a:t>Eseguire indicazioni che giungono da chi sa. E svolgere il proprio ruolo come esecut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Costruire un arcipelago di competenz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In contatto fra lor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I mediatori, faticosi in un mondo affollato, in continuo movimento e multi culturale (meglio la solitudine nella folla …?)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a</dc:creator>
  <dc:description/>
  <dc:language>en-US</dc:language>
  <cp:lastModifiedBy>Utente</cp:lastModifiedBy>
  <dcterms:modified xsi:type="dcterms:W3CDTF">2012-06-03T18:26:4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